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BA1-4E15-4C28-AC84-9CA01D96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594-A136-4511-9980-74DB9BF1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C96-1259-4996-8F8A-E6D041C6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BCB-BEE8-438B-9176-E77FF25A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4E8-78F3-46E1-B8C6-F4D2CF02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091-564A-4134-A836-F02A0A1C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20E-6436-4EB8-A421-6D812335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F7F-1077-4409-BB1C-E30FB7CC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85C-B42D-40D5-8751-22FB12F3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621-15A8-44EF-8F8C-00369C8E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4F2-CA0E-40F5-BFB3-85C2B57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B7A-B80F-4975-AA0E-35AC197E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6768-B35D-4084-A0D7-AC942556F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6.jpeg"/><Relationship Id="rId12" Type="http://schemas.openxmlformats.org/officeDocument/2006/relationships/image" Target="../media/image3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1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6643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cle J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124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the day I make Uncle Jim smil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3809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se city people have given me a new nickname; they call me the garden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anks for the package of plants from home! Emma laughed when the dirt came out of the packag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1814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one of those days that I remember you saying. “April showers bring May flowers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ave found a new place in the city; it’s on the top of Uncle Jim’s building. The view is so beautifu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5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48420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6656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4744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19320" y="5334120"/>
            <a:ext cx="417240" cy="5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52280" y="6095880"/>
            <a:ext cx="40500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094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133720" y="25146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2133720" y="31240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133720" y="3809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2133720" y="44956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2133720" y="51814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133720" y="5867280"/>
            <a:ext cx="4572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81280"/>
            <a:ext cx="16002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98108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long a dirt 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ardening, Kneading Bread, Helping at the Bak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ardening, Playing with Otis, Making Uncle Jim s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Glenn Miller, Larry Clinton, Kate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“Seventh Heaven“, “The King of Kings”, “Pow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peye, The Three Stooges, The Looney T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“The Garden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en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617220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o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80 Way in the Country L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(865) GAR-D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280" y="53910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60958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752480"/>
            <a:ext cx="7467480" cy="289584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ydia Gr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724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ydia Grac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6324480"/>
            <a:ext cx="6858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337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99072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477120" y="1828800"/>
            <a:ext cx="144756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38080" y="1828800"/>
            <a:ext cx="1981440" cy="131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048120" y="182880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4800600" y="1828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990720" y="320040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Owner</cp:lastModifiedBy>
  <dcterms:modified xsi:type="dcterms:W3CDTF">2012-04-24T20:41:43Z</dcterms:modified>
  <cp:revision>38</cp:revision>
  <dc:subject/>
  <dc:title>Profile</dc:title>
</cp:coreProperties>
</file>